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548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3F6236-8BFD-42C2-8C7D-32098C07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131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9E5-6259-441F-8426-2A83072B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BED-356D-4AD2-A84D-2C9A7768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907-6886-4F51-BC5F-2587303E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F74-D799-447E-A10C-37248647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F1D-8A63-4184-9FEC-5462D89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9B3-856C-41FF-99CA-83A6ACC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58E-B582-45FC-B043-B7AB8426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50A-B753-49AB-B856-4C36594E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81C-79E3-430A-9629-29C2DA3E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492-74C5-4E14-8722-63F2121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C3F-9610-4CB0-9948-6C5F701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8BA0-7A9F-41C3-95C0-BEFB7EA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B013-8F15-4151-B672-DC0F970E0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ortal/C8/Succession-Programs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OF SANTA BARBA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Developmen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7200" y="1143000"/>
            <a:ext cx="8076960" cy="5333400"/>
            <a:chOff x="457200" y="1143000"/>
            <a:chExt cx="8076960" cy="5333400"/>
          </a:xfrm>
        </p:grpSpPr>
        <p:cxnSp>
          <p:nvCxnSpPr>
            <p:cNvPr id="130" name="_s12292"/>
            <p:cNvCxnSpPr>
              <a:stCxn id="131" idx="2"/>
              <a:endCxn id="132" idx="3"/>
            </p:cNvCxnSpPr>
            <p:nvPr/>
          </p:nvCxnSpPr>
          <p:spPr>
            <a:xfrm rot="10800000">
              <a:off x="4831560" y="4070880"/>
              <a:ext cx="275400" cy="563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3" name="_s12293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2341080" y="3749760"/>
              <a:ext cx="266400" cy="914400"/>
            </a:xfrm>
            <a:prstGeom prst="bentConnector3">
              <a:avLst>
                <a:gd name="adj1" fmla="val 4303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12294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1484640" y="3807720"/>
              <a:ext cx="266400" cy="799200"/>
            </a:xfrm>
            <a:prstGeom prst="bentConnector3">
              <a:avLst>
                <a:gd name="adj1" fmla="val 4303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12295"/>
            <p:cNvCxnSpPr>
              <a:stCxn id="139" idx="2"/>
              <a:endCxn id="140" idx="3"/>
            </p:cNvCxnSpPr>
            <p:nvPr/>
          </p:nvCxnSpPr>
          <p:spPr>
            <a:xfrm rot="10800000">
              <a:off x="3852000" y="3272760"/>
              <a:ext cx="275400" cy="296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1" name="_s12296"/>
            <p:cNvCxnSpPr>
              <a:stCxn id="142" idx="2"/>
              <a:endCxn id="143" idx="3"/>
            </p:cNvCxnSpPr>
            <p:nvPr/>
          </p:nvCxnSpPr>
          <p:spPr>
            <a:xfrm rot="10800000">
              <a:off x="6789600" y="3272760"/>
              <a:ext cx="275400" cy="2162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2297"/>
            <p:cNvCxnSpPr>
              <a:stCxn id="145" idx="4"/>
              <a:endCxn id="146" idx="3"/>
            </p:cNvCxnSpPr>
            <p:nvPr/>
          </p:nvCxnSpPr>
          <p:spPr>
            <a:xfrm flipV="1">
              <a:off x="5046120" y="1677600"/>
              <a:ext cx="275400" cy="560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12298"/>
            <p:cNvCxnSpPr>
              <a:stCxn id="148" idx="2"/>
              <a:endCxn id="140" idx="3"/>
            </p:cNvCxnSpPr>
            <p:nvPr/>
          </p:nvCxnSpPr>
          <p:spPr>
            <a:xfrm rot="10800000">
              <a:off x="3852000" y="3272760"/>
              <a:ext cx="275400" cy="2165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12299"/>
            <p:cNvCxnSpPr>
              <a:stCxn id="150" idx="4"/>
              <a:endCxn id="140" idx="3"/>
            </p:cNvCxnSpPr>
            <p:nvPr/>
          </p:nvCxnSpPr>
          <p:spPr>
            <a:xfrm flipV="1">
              <a:off x="2721240" y="3273120"/>
              <a:ext cx="1131480" cy="2966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2300"/>
            <p:cNvCxnSpPr>
              <a:stCxn id="152" idx="4"/>
              <a:endCxn id="140" idx="3"/>
            </p:cNvCxnSpPr>
            <p:nvPr/>
          </p:nvCxnSpPr>
          <p:spPr>
            <a:xfrm flipV="1">
              <a:off x="2721240" y="3272760"/>
              <a:ext cx="1131480" cy="2165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2301"/>
            <p:cNvCxnSpPr>
              <a:stCxn id="132" idx="2"/>
              <a:endCxn id="140" idx="3"/>
            </p:cNvCxnSpPr>
            <p:nvPr/>
          </p:nvCxnSpPr>
          <p:spPr>
            <a:xfrm rot="10800000">
              <a:off x="3852000" y="3272760"/>
              <a:ext cx="275400" cy="561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12302"/>
            <p:cNvCxnSpPr>
              <a:stCxn id="155" idx="2"/>
              <a:endCxn id="143" idx="3"/>
            </p:cNvCxnSpPr>
            <p:nvPr/>
          </p:nvCxnSpPr>
          <p:spPr>
            <a:xfrm rot="10800000">
              <a:off x="6789600" y="3272760"/>
              <a:ext cx="275400" cy="564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12303"/>
            <p:cNvCxnSpPr>
              <a:stCxn id="135" idx="4"/>
              <a:endCxn id="140" idx="3"/>
            </p:cNvCxnSpPr>
            <p:nvPr/>
          </p:nvCxnSpPr>
          <p:spPr>
            <a:xfrm flipV="1">
              <a:off x="2721240" y="3272760"/>
              <a:ext cx="1131480" cy="564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2304"/>
            <p:cNvCxnSpPr>
              <a:stCxn id="143" idx="0"/>
              <a:endCxn id="146" idx="3"/>
            </p:cNvCxnSpPr>
            <p:nvPr/>
          </p:nvCxnSpPr>
          <p:spPr>
            <a:xfrm flipV="1" rot="16200000">
              <a:off x="5554080" y="1444320"/>
              <a:ext cx="1064160" cy="1530000"/>
            </a:xfrm>
            <a:prstGeom prst="bentConnector3">
              <a:avLst>
                <a:gd name="adj1" fmla="val 1072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12305"/>
            <p:cNvCxnSpPr>
              <a:stCxn id="140" idx="0"/>
              <a:endCxn id="146" idx="3"/>
            </p:cNvCxnSpPr>
            <p:nvPr/>
          </p:nvCxnSpPr>
          <p:spPr>
            <a:xfrm flipH="1" flipV="1" rot="5400000">
              <a:off x="4083840" y="1503720"/>
              <a:ext cx="1064160" cy="1411920"/>
            </a:xfrm>
            <a:prstGeom prst="bentConnector3">
              <a:avLst>
                <a:gd name="adj1" fmla="val 10727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6" name="_s12306"/>
            <p:cNvSpPr/>
            <p:nvPr/>
          </p:nvSpPr>
          <p:spPr>
            <a:xfrm>
              <a:off x="4277160" y="1143000"/>
              <a:ext cx="214920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Coaching Suppor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307"/>
            <p:cNvSpPr/>
            <p:nvPr/>
          </p:nvSpPr>
          <p:spPr>
            <a:xfrm>
              <a:off x="2980800" y="2741400"/>
              <a:ext cx="18010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308"/>
            <p:cNvSpPr/>
            <p:nvPr/>
          </p:nvSpPr>
          <p:spPr>
            <a:xfrm>
              <a:off x="5918760" y="2741400"/>
              <a:ext cx="180360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3400" rIns="113400" tIns="56880" bIns="56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2309"/>
            <p:cNvSpPr/>
            <p:nvPr/>
          </p:nvSpPr>
          <p:spPr>
            <a:xfrm>
              <a:off x="1313280" y="3539160"/>
              <a:ext cx="146556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et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2310"/>
            <p:cNvSpPr/>
            <p:nvPr/>
          </p:nvSpPr>
          <p:spPr>
            <a:xfrm>
              <a:off x="7065360" y="3539160"/>
              <a:ext cx="14662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ec. Pan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cus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2311"/>
            <p:cNvSpPr/>
            <p:nvPr/>
          </p:nvSpPr>
          <p:spPr>
            <a:xfrm>
              <a:off x="4127400" y="3539160"/>
              <a:ext cx="1466280" cy="532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eer Ba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2312"/>
            <p:cNvSpPr/>
            <p:nvPr/>
          </p:nvSpPr>
          <p:spPr>
            <a:xfrm>
              <a:off x="7065360" y="4340160"/>
              <a:ext cx="146880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depart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2313"/>
            <p:cNvSpPr/>
            <p:nvPr/>
          </p:nvSpPr>
          <p:spPr>
            <a:xfrm>
              <a:off x="1313280" y="5141160"/>
              <a:ext cx="146556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ad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314"/>
            <p:cNvSpPr/>
            <p:nvPr/>
          </p:nvSpPr>
          <p:spPr>
            <a:xfrm>
              <a:off x="1313280" y="5942160"/>
              <a:ext cx="146556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ent 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315"/>
            <p:cNvSpPr/>
            <p:nvPr/>
          </p:nvSpPr>
          <p:spPr>
            <a:xfrm>
              <a:off x="4127400" y="5141160"/>
              <a:ext cx="1466280" cy="53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ct &amp; Situ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316"/>
            <p:cNvSpPr/>
            <p:nvPr/>
          </p:nvSpPr>
          <p:spPr>
            <a:xfrm>
              <a:off x="3638160" y="194364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317"/>
            <p:cNvSpPr/>
            <p:nvPr/>
          </p:nvSpPr>
          <p:spPr>
            <a:xfrm>
              <a:off x="7065360" y="5141160"/>
              <a:ext cx="14662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cussion Grou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_s12318"/>
            <p:cNvCxnSpPr>
              <a:stCxn id="159" idx="2"/>
              <a:endCxn id="143" idx="3"/>
            </p:cNvCxnSpPr>
            <p:nvPr/>
          </p:nvCxnSpPr>
          <p:spPr>
            <a:xfrm rot="10800000">
              <a:off x="6789600" y="3272760"/>
              <a:ext cx="275400" cy="1365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9" name="_s12319"/>
            <p:cNvSpPr/>
            <p:nvPr/>
          </p:nvSpPr>
          <p:spPr>
            <a:xfrm>
              <a:off x="4127400" y="5942160"/>
              <a:ext cx="146628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320"/>
            <p:cNvSpPr/>
            <p:nvPr/>
          </p:nvSpPr>
          <p:spPr>
            <a:xfrm>
              <a:off x="457200" y="434016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ve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2321"/>
            <p:cNvSpPr/>
            <p:nvPr/>
          </p:nvSpPr>
          <p:spPr>
            <a:xfrm>
              <a:off x="2169360" y="4340160"/>
              <a:ext cx="146556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2322"/>
            <p:cNvSpPr/>
            <p:nvPr/>
          </p:nvSpPr>
          <p:spPr>
            <a:xfrm>
              <a:off x="5106960" y="4340160"/>
              <a:ext cx="1465560" cy="531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ie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ing Suppor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es 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ch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oach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epartmental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are posted City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99"/>
                </a:solidFill>
                <a:uFillTx/>
                <a:latin typeface="Arial"/>
              </a:rPr>
              <a:t>Opportunities for Managers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"/>
              </a:rPr>
              <a:t>Team 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"/>
              </a:rPr>
              <a:t>Team Coordinator (includes team leadership &amp; coaching r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80 Implementation (Conclu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eaucracy B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Government Career Outreach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of L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Policies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 Code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 Service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ent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nt position or short-term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y level of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Head advertises the opportunity to one or mor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-12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salary during assig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or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rtal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rtal/C8/Succession-Program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uccession Program Cont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celo Lopez, Executive Coordinator (ext. 53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gram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ership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 Sanchez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ela Reynoso, Staff Coordinator (ext. 53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 Skills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y Rapp, Executive Team Leader (ext. 54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ching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n Kent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y Schmidt, Staff Coordinator (ext. 53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departmental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Armstrong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y Schmidt, Staff Coordinator (ext. 53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ent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Armstrong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a Johnson, Staff Coordinator (ext. 53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Nisich, Executive Team Lea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Kefauver, Staff Coordinator (ext. 19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6960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ccession planning = A process of identifying and preparing employees to be ready to replace key players in an organization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's Succession Program consists of 6 different programs that function independently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-Ye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ership Acade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nagement Competencie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 Assessment Too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aching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experienced manag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lent Ex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epartments and division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departmental Team Pro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portunitie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ship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09480" y="838080"/>
            <a:ext cx="7771320" cy="5562000"/>
            <a:chOff x="609480" y="838080"/>
            <a:chExt cx="7771320" cy="5562000"/>
          </a:xfrm>
        </p:grpSpPr>
        <p:cxnSp>
          <p:nvCxnSpPr>
            <p:cNvPr id="52" name="_s3225"/>
            <p:cNvCxnSpPr>
              <a:stCxn id="53" idx="4"/>
              <a:endCxn id="54" idx="3"/>
            </p:cNvCxnSpPr>
            <p:nvPr/>
          </p:nvCxnSpPr>
          <p:spPr>
            <a:xfrm flipV="1">
              <a:off x="2680920" y="2048760"/>
              <a:ext cx="379440" cy="413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5" name="_s3223"/>
            <p:cNvCxnSpPr>
              <a:stCxn id="56" idx="4"/>
              <a:endCxn id="54" idx="3"/>
            </p:cNvCxnSpPr>
            <p:nvPr/>
          </p:nvCxnSpPr>
          <p:spPr>
            <a:xfrm flipV="1">
              <a:off x="2680920" y="2048760"/>
              <a:ext cx="379440" cy="3407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7" name="_s3221"/>
            <p:cNvCxnSpPr>
              <a:stCxn id="58" idx="4"/>
              <a:endCxn id="54" idx="3"/>
            </p:cNvCxnSpPr>
            <p:nvPr/>
          </p:nvCxnSpPr>
          <p:spPr>
            <a:xfrm flipV="1">
              <a:off x="2680920" y="2049120"/>
              <a:ext cx="379440" cy="2683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9" name="_s3219"/>
            <p:cNvCxnSpPr>
              <a:stCxn id="60" idx="4"/>
              <a:endCxn id="54" idx="3"/>
            </p:cNvCxnSpPr>
            <p:nvPr/>
          </p:nvCxnSpPr>
          <p:spPr>
            <a:xfrm flipV="1">
              <a:off x="2680920" y="2049120"/>
              <a:ext cx="379440" cy="1959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1" name="_s3217"/>
            <p:cNvCxnSpPr>
              <a:stCxn id="62" idx="4"/>
              <a:endCxn id="54" idx="3"/>
            </p:cNvCxnSpPr>
            <p:nvPr/>
          </p:nvCxnSpPr>
          <p:spPr>
            <a:xfrm flipV="1">
              <a:off x="2680920" y="2049120"/>
              <a:ext cx="379440" cy="1235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" name="_s3213"/>
            <p:cNvCxnSpPr>
              <a:stCxn id="64" idx="2"/>
              <a:endCxn id="65" idx="3"/>
            </p:cNvCxnSpPr>
            <p:nvPr/>
          </p:nvCxnSpPr>
          <p:spPr>
            <a:xfrm rot="10800000">
              <a:off x="5884560" y="2048760"/>
              <a:ext cx="375120" cy="4133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3211"/>
            <p:cNvCxnSpPr>
              <a:stCxn id="67" idx="2"/>
              <a:endCxn id="65" idx="3"/>
            </p:cNvCxnSpPr>
            <p:nvPr/>
          </p:nvCxnSpPr>
          <p:spPr>
            <a:xfrm rot="10800000">
              <a:off x="5884560" y="2048760"/>
              <a:ext cx="375120" cy="3407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8" name="_s3209"/>
            <p:cNvCxnSpPr>
              <a:stCxn id="69" idx="2"/>
              <a:endCxn id="65" idx="3"/>
            </p:cNvCxnSpPr>
            <p:nvPr/>
          </p:nvCxnSpPr>
          <p:spPr>
            <a:xfrm rot="10800000">
              <a:off x="5884560" y="2048760"/>
              <a:ext cx="375120" cy="2683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0" name="_s3207"/>
            <p:cNvCxnSpPr>
              <a:stCxn id="71" idx="2"/>
              <a:endCxn id="65" idx="3"/>
            </p:cNvCxnSpPr>
            <p:nvPr/>
          </p:nvCxnSpPr>
          <p:spPr>
            <a:xfrm rot="10800000">
              <a:off x="5884560" y="2048760"/>
              <a:ext cx="375120" cy="1959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2" name="_s3205"/>
            <p:cNvCxnSpPr>
              <a:stCxn id="73" idx="2"/>
              <a:endCxn id="65" idx="3"/>
            </p:cNvCxnSpPr>
            <p:nvPr/>
          </p:nvCxnSpPr>
          <p:spPr>
            <a:xfrm rot="10800000">
              <a:off x="5884560" y="2048760"/>
              <a:ext cx="375120" cy="1235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4" name="_s3203"/>
            <p:cNvCxnSpPr>
              <a:stCxn id="75" idx="2"/>
              <a:endCxn id="65" idx="3"/>
            </p:cNvCxnSpPr>
            <p:nvPr/>
          </p:nvCxnSpPr>
          <p:spPr>
            <a:xfrm rot="10800000">
              <a:off x="5884560" y="2048760"/>
              <a:ext cx="375120" cy="509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6" name="_s3201"/>
            <p:cNvCxnSpPr>
              <a:stCxn id="77" idx="4"/>
              <a:endCxn id="54" idx="3"/>
            </p:cNvCxnSpPr>
            <p:nvPr/>
          </p:nvCxnSpPr>
          <p:spPr>
            <a:xfrm flipV="1">
              <a:off x="2680920" y="2049120"/>
              <a:ext cx="379440" cy="51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8" name="_s3199"/>
            <p:cNvCxnSpPr>
              <a:stCxn id="65" idx="2"/>
              <a:endCxn id="79" idx="3"/>
            </p:cNvCxnSpPr>
            <p:nvPr/>
          </p:nvCxnSpPr>
          <p:spPr>
            <a:xfrm rot="10800000">
              <a:off x="4471920" y="1322640"/>
              <a:ext cx="375120" cy="50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0" name="_s3197"/>
            <p:cNvCxnSpPr>
              <a:stCxn id="54" idx="4"/>
              <a:endCxn id="79" idx="3"/>
            </p:cNvCxnSpPr>
            <p:nvPr/>
          </p:nvCxnSpPr>
          <p:spPr>
            <a:xfrm flipV="1">
              <a:off x="4093560" y="1323000"/>
              <a:ext cx="379440" cy="50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9" name="_s3083"/>
            <p:cNvSpPr/>
            <p:nvPr/>
          </p:nvSpPr>
          <p:spPr>
            <a:xfrm>
              <a:off x="2941920" y="838080"/>
              <a:ext cx="310968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96"/>
            <p:cNvSpPr/>
            <p:nvPr/>
          </p:nvSpPr>
          <p:spPr>
            <a:xfrm>
              <a:off x="2022120" y="1564560"/>
              <a:ext cx="212040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AP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198"/>
            <p:cNvSpPr/>
            <p:nvPr/>
          </p:nvSpPr>
          <p:spPr>
            <a:xfrm>
              <a:off x="4847040" y="1564560"/>
              <a:ext cx="212112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CCESSIO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200"/>
            <p:cNvSpPr/>
            <p:nvPr/>
          </p:nvSpPr>
          <p:spPr>
            <a:xfrm>
              <a:off x="609480" y="2290680"/>
              <a:ext cx="212040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CCESS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202"/>
            <p:cNvSpPr/>
            <p:nvPr/>
          </p:nvSpPr>
          <p:spPr>
            <a:xfrm>
              <a:off x="6259680" y="2290680"/>
              <a:ext cx="212112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ANAGEMENT COMPET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SSMENT T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204"/>
            <p:cNvSpPr/>
            <p:nvPr/>
          </p:nvSpPr>
          <p:spPr>
            <a:xfrm>
              <a:off x="6259680" y="3017160"/>
              <a:ext cx="212112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HI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D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206"/>
            <p:cNvSpPr/>
            <p:nvPr/>
          </p:nvSpPr>
          <p:spPr>
            <a:xfrm>
              <a:off x="6259680" y="3740760"/>
              <a:ext cx="212112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CH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208"/>
            <p:cNvSpPr/>
            <p:nvPr/>
          </p:nvSpPr>
          <p:spPr>
            <a:xfrm>
              <a:off x="6259680" y="4465080"/>
              <a:ext cx="212112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-DEPARTME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210"/>
            <p:cNvSpPr/>
            <p:nvPr/>
          </p:nvSpPr>
          <p:spPr>
            <a:xfrm>
              <a:off x="6259680" y="5189040"/>
              <a:ext cx="2121120" cy="485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SH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212"/>
            <p:cNvSpPr/>
            <p:nvPr/>
          </p:nvSpPr>
          <p:spPr>
            <a:xfrm>
              <a:off x="6259680" y="5915520"/>
              <a:ext cx="2121120" cy="484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LENT 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216"/>
            <p:cNvSpPr/>
            <p:nvPr/>
          </p:nvSpPr>
          <p:spPr>
            <a:xfrm>
              <a:off x="609480" y="301716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E 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218"/>
            <p:cNvSpPr/>
            <p:nvPr/>
          </p:nvSpPr>
          <p:spPr>
            <a:xfrm>
              <a:off x="609480" y="3740760"/>
              <a:ext cx="2120400" cy="482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220"/>
            <p:cNvSpPr/>
            <p:nvPr/>
          </p:nvSpPr>
          <p:spPr>
            <a:xfrm>
              <a:off x="609480" y="446508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HIP S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222"/>
            <p:cNvSpPr/>
            <p:nvPr/>
          </p:nvSpPr>
          <p:spPr>
            <a:xfrm>
              <a:off x="609480" y="518904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GAL AWARE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224"/>
            <p:cNvSpPr/>
            <p:nvPr/>
          </p:nvSpPr>
          <p:spPr>
            <a:xfrm>
              <a:off x="609480" y="5915520"/>
              <a:ext cx="2120400" cy="482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uter, Safety, Welln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of Santa Barb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1757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17575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371600"/>
            <a:ext cx="7924680" cy="4874760"/>
            <a:chOff x="609480" y="1371600"/>
            <a:chExt cx="7924680" cy="48747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12734" t="15502" r="5234" b="5203"/>
            <a:stretch/>
          </p:blipFill>
          <p:spPr>
            <a:xfrm>
              <a:off x="609480" y="1371600"/>
              <a:ext cx="7924680" cy="4874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3061080" y="4065840"/>
              <a:ext cx="2472480" cy="125208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mary Target Aud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523880"/>
            <a:ext cx="5486400" cy="4343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276720"/>
            <a:ext cx="2133360" cy="0"/>
          </a:xfrm>
          <a:prstGeom prst="line">
            <a:avLst/>
          </a:prstGeom>
          <a:ln w="93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9080" y="2608200"/>
            <a:ext cx="15127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572000"/>
            <a:ext cx="373392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6600" y="3505320"/>
            <a:ext cx="21376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VI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186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ITY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2" idx="1"/>
            <a:endCxn id="91" idx="0"/>
          </p:cNvCxnSpPr>
          <p:nvPr/>
        </p:nvCxnSpPr>
        <p:spPr>
          <a:xfrm rot="10800000">
            <a:off x="4571280" y="1599480"/>
            <a:ext cx="210240" cy="2096280"/>
          </a:xfrm>
          <a:prstGeom prst="bentConnector4">
            <a:avLst>
              <a:gd name="adj1" fmla="val 2172555"/>
              <a:gd name="adj2" fmla="val 114531"/>
            </a:avLst>
          </a:prstGeom>
          <a:ln w="0">
            <a:noFill/>
          </a:ln>
        </p:spPr>
      </p:cxnSp>
      <p:sp>
        <p:nvSpPr>
          <p:cNvPr id="99" name=""/>
          <p:cNvSpPr/>
          <p:nvPr/>
        </p:nvSpPr>
        <p:spPr>
          <a:xfrm flipV="1">
            <a:off x="228600" y="4910760"/>
            <a:ext cx="3048120" cy="478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RDEPARTMENTAL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ALENT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" y="3460680"/>
            <a:ext cx="2971800" cy="6933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LEADERSHIP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COACHING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ANAGEMENT SKILL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114800"/>
            <a:ext cx="4572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334120"/>
            <a:ext cx="152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657600" y="1828800"/>
            <a:ext cx="1523880" cy="2286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1904760"/>
            <a:ext cx="2133720" cy="3429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36232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1981080"/>
            <a:ext cx="99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114800"/>
            <a:ext cx="1447920" cy="0"/>
          </a:xfrm>
          <a:prstGeom prst="line">
            <a:avLst/>
          </a:prstGeom>
          <a:ln w="9360">
            <a:solidFill>
              <a:srgbClr val="99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5334120"/>
            <a:ext cx="18288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3880"/>
            <a:ext cx="31240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following chart indicates the primary target audiences for each program- however, participation is not necessarily limited to thes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6095880"/>
            <a:ext cx="2038320" cy="42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PRE-EMPLOY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INTERNSHIP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Year City Leadership Acade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-based Academy, set up as a cohort.  With maximum participation at 25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Program of ICMA &amp; Advanced Management Subjects.  Competency based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aching, Delegating, Support &amp;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y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nnedy School at Harvard (2 per s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680" y="5943600"/>
            <a:ext cx="184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dem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79000" y="1683720"/>
            <a:ext cx="4985280" cy="4134960"/>
            <a:chOff x="2079000" y="1683720"/>
            <a:chExt cx="4985280" cy="4134960"/>
          </a:xfrm>
        </p:grpSpPr>
        <p:sp>
          <p:nvSpPr>
            <p:cNvPr id="116" name="_s17413"/>
            <p:cNvSpPr/>
            <p:nvPr/>
          </p:nvSpPr>
          <p:spPr>
            <a:xfrm flipV="1">
              <a:off x="3744000" y="1683720"/>
              <a:ext cx="1655280" cy="1412640"/>
            </a:xfrm>
            <a:custGeom>
              <a:avLst/>
              <a:gdLst>
                <a:gd name="textAreaLeft" fmla="*/ 594000 w 1655280"/>
                <a:gd name="textAreaRight" fmla="*/ 1061280 w 1655280"/>
                <a:gd name="textAreaTop" fmla="*/ 506880 h 1412640"/>
                <a:gd name="textAreaBottom" fmla="*/ 90576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dem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7414"/>
            <p:cNvSpPr/>
            <p:nvPr/>
          </p:nvSpPr>
          <p:spPr>
            <a:xfrm flipV="1">
              <a:off x="2916720" y="3165840"/>
              <a:ext cx="3310200" cy="1336320"/>
            </a:xfrm>
            <a:custGeom>
              <a:avLst/>
              <a:gdLst>
                <a:gd name="textAreaLeft" fmla="*/ 727920 w 3310200"/>
                <a:gd name="textAreaRight" fmla="*/ 2582280 w 3310200"/>
                <a:gd name="textAreaTop" fmla="*/ 293760 h 1336320"/>
                <a:gd name="textAreaBottom" fmla="*/ 1042560 h 13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Govern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Specific Cour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7415"/>
            <p:cNvSpPr/>
            <p:nvPr/>
          </p:nvSpPr>
          <p:spPr>
            <a:xfrm flipV="1">
              <a:off x="2079000" y="4578120"/>
              <a:ext cx="4985280" cy="1240200"/>
            </a:xfrm>
            <a:custGeom>
              <a:avLst/>
              <a:gdLst>
                <a:gd name="textAreaLeft" fmla="*/ 865440 w 4985280"/>
                <a:gd name="textAreaRight" fmla="*/ 4119840 w 4985280"/>
                <a:gd name="textAreaTop" fmla="*/ 215280 h 1240200"/>
                <a:gd name="textAreaBottom" fmla="*/ 1024920 h 124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Covey’s Management Techniqu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Palatino Linotype"/>
                </a:rPr>
                <a:t>7 Habits for Manag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1840" y="2541960"/>
              <a:ext cx="1344960" cy="2764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83720" y="3322440"/>
              <a:ext cx="1345320" cy="276480"/>
            </a:xfrm>
            <a:prstGeom prst="rect">
              <a:avLst/>
            </a:prstGeom>
            <a:solidFill>
              <a:srgbClr val="333399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000" y="5943600"/>
            <a:ext cx="184608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0200" y="5105520"/>
            <a:ext cx="1295280" cy="276480"/>
          </a:xfrm>
          <a:prstGeom prst="rect">
            <a:avLst/>
          </a:prstGeom>
          <a:solidFill>
            <a:srgbClr val="009999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6400800" y="457200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 Competencies Assessment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8000" y="6311880"/>
            <a:ext cx="4199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</a:rPr>
              <a:t>Note:  Competencies are same as Leadership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21:18:37Z</dcterms:created>
  <dc:creator>Kristine Schmidt</dc:creator>
  <dc:description/>
  <cp:keywords/>
  <dc:language>en-US</dc:language>
  <cp:lastModifiedBy>Kristine Schmidt</cp:lastModifiedBy>
  <dcterms:modified xsi:type="dcterms:W3CDTF">2007-12-12T18:16:46Z</dcterms:modified>
  <cp:revision>80</cp:revision>
  <dc:subject/>
  <dc:title>Organization Chart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33</vt:lpwstr>
  </property>
</Properties>
</file>