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085D-25C0-4943-8499-7E1CFCD34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dates/regs – Police pension (7% to 28%), Interstate patrols, official publications, fire re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mitations - $8.10, rollback (48% - $280 mil. loss over 10 yrs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uction - $60 million in 03 mid year – Consolidated payments ( 2% of General Fund rev.) – like amount discussed for next year (Credit replacement paymen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SG – St. Paul consultant, employed by State to reinvent government in Iow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nference – two day, State and local officials identified relationship problems and solutions: a)study to identify service delivery responsibilities for State/locals, b)Freedom Communities, c)add perf. measures to State’s strategic plan, d)annual conference on innovation &amp; perf. measure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mmittee – enhance relationship through quarterly discussions, incubator for policy idea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einvention Update – e newsletter, best practices, status of projec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 – local gov’t page, best practices expanded, ads for PSG effor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orkshops – conducted by Committee to facilitate innovation, public safety collaboration, technology u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ech assistance – facilitate reinvention efforts (i.e. our Fire/EMS district) – one on one consult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edom Communities – eliminate collective bargaining in exchange for performance measurement (accountability), also looked at elimination of limitations, restoration of local pens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tructure – modify current citizen study and petition process (DM/Polk proc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row back for $60 mil. C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ater and Sheldahl - $28,800 grant to study service sharing or merging in recreation, roadway maintenance, water &amp; sewer – also joint land use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nry- $50,000 grant/$100,000 loan to integrate criminal justice inf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din - $21,294 grant to pool City, County and Hospital resources for expanded CPR trai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nver - $7,500 grant to coordinate subdivision ordinances with County – also update utility ma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dar Rapids/Linn County - $33,000 grant/$11,000 loan to develop county-wide 24 hour accessible taxi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ve, et al - $100,000 loan to develop a fiber connection between cities for creation of joint Fire/EMS training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d by Legislature in 2000 using gaming and tobacco settlement fu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sh money into local economy in a manner that would leverage other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ds vertical infrastructure related to recreation, educational, entertainment and cultural activit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ion Iowa Board must have at least 2 mayors and a county supervisor on 13 member 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6441-001D-4DF3-886B-7EF5692EC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B070-A145-41B2-A120-4E463B80A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8CB6-5487-4B04-9C65-86B0E0691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C871-AEFA-4034-8DDE-21CB99ABD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ABA8-8720-44BB-BC4B-3B3B2384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CCFA-7A2A-42D5-AB6F-8C404B8F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7094-0A6F-44FF-ABC8-9B42CDF5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51C4-5823-4CE6-8055-B6FB6DB3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4D47-246D-4ABE-827C-542A81BA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2A82-FC8B-41A7-98CB-3C285950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736E-A419-4B83-9514-864044E8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13B2-2554-486F-A26D-AE559900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68"/>
            </a:gs>
            <a:gs pos="100000">
              <a:srgbClr val="00a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1400-0609-462B-82A3-5C0B7DE87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001000" y="5711760"/>
            <a:ext cx="93996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owa.regov.org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68"/>
            </a:gs>
            <a:gs pos="100000">
              <a:srgbClr val="00a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tate Micromanagement of Local Affair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004 ICMA Annual Confere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ob Layt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ity Manager – Urbandale, Iow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68"/>
            </a:gs>
            <a:gs pos="100000">
              <a:srgbClr val="00a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ommunity Attraction and Tourism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139 projects – no minimum project cost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Funding range - $9,500 to $3.2 million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Aquatic centers, community centers, museums, libraries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Rural Heritage Center (State Center)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All Season’s Recreation Center (Sioux Center)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Library &amp; Community Center (Mount Pleasant)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New Iowa Civic Center (Columbus Junction)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68"/>
            </a:gs>
            <a:gs pos="100000">
              <a:srgbClr val="00a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tate/Local Relationship – Iowa Histor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ndates/regula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perty tax limita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ate assistance reduc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2251080"/>
            <a:ext cx="380988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68"/>
            </a:gs>
            <a:gs pos="100000">
              <a:srgbClr val="00a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artnership Initiativ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blic Strategies Grou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ocal Government Innovations Fun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ision Iowa Progra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49400" y="1981080"/>
            <a:ext cx="3081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68"/>
            </a:gs>
            <a:gs pos="100000">
              <a:srgbClr val="00a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ublic Strategies Group (PSG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cal and State Relations Confere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te – Local Steering Committe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Reinvention Upda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iowa.regov.or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orkshop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chnical assista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68"/>
            </a:gs>
            <a:gs pos="100000">
              <a:srgbClr val="00a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SG Legislative Recommendatio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duce mandates to citi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reate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Freedom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Communitie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ke it easier to restructure local governmen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und innovative restructur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crease local government flexibility and accountabilit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tilize best practic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68"/>
            </a:gs>
            <a:gs pos="100000">
              <a:srgbClr val="00a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ocal Government Innovations Fun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$975,000 loan &amp; grant fun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later and Sheldahl - service shar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nry County - data integr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ardin County - CPR training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65240" y="1981080"/>
            <a:ext cx="3051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68"/>
            </a:gs>
            <a:gs pos="100000">
              <a:srgbClr val="00a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ocal Government Innovations Fun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nver – subdivision ordinance coordin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edar Rapids/Linn County – accessible taxi servi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live, Urbandale, West Des Moines – joint Fire/EMS train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65240" y="1981080"/>
            <a:ext cx="3051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68"/>
            </a:gs>
            <a:gs pos="100000">
              <a:srgbClr val="00a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Vision Iowa Program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Vision Iowa-$300 million for 20 years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CAT-$50 million for 4 year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Encourage visionary thinking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Projects to promote tourism and community development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42840" y="1981080"/>
            <a:ext cx="3294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68"/>
            </a:gs>
            <a:gs pos="100000">
              <a:srgbClr val="00a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Vision Iow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1 projects – total cost &gt; $20 mill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unding range - $3.3 million to $70 mill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pital City Vision Project (Des Moine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merica’s River at the Port of Dubuqu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ngs to Do With a River View (Clinton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3T01:46:17Z</dcterms:created>
  <dc:creator>rlayton</dc:creator>
  <dc:description/>
  <dc:language>en-US</dc:language>
  <cp:lastModifiedBy>Alison Miller</cp:lastModifiedBy>
  <dcterms:modified xsi:type="dcterms:W3CDTF">2005-01-18T21:52:19Z</dcterms:modified>
  <cp:revision>13</cp:revision>
  <dc:subject/>
  <dc:title>State Micromanagement of Local Affairs</dc:title>
</cp:coreProperties>
</file>