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i="1" lang="en-US" sz="1000" spc="-1" strike="noStrike">
                <a:solidFill>
                  <a:srgbClr val="000000"/>
                </a:solidFill>
                <a:latin typeface="MarkingPen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180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i="1" lang="en-US" sz="1000" spc="-1" strike="noStrike">
                <a:solidFill>
                  <a:srgbClr val="000000"/>
                </a:solidFill>
                <a:latin typeface="MarkingPenHeavy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i="1" lang="en-US" sz="1000" spc="-1" strike="noStrike">
                <a:solidFill>
                  <a:srgbClr val="000000"/>
                </a:solidFill>
                <a:latin typeface="MarkingPen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626033B-A3F0-4EE3-977A-A7DBD0DF080A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C6D3210-2322-418C-A44A-D1277625A6F3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80F8-3197-4A51-BA06-195EFFDE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482-E2BB-4DED-93B8-2EB15021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0D4E-CAFD-4E85-B1F2-5442E22D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A920-D8F5-4951-93B3-953D4AED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BAC-D8FD-4F4F-A33F-D7C59017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A06B-421C-4F11-9E8F-0892053E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68EE-488A-452F-B89A-2603D099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AA9-5CCA-4913-80D9-B3F0F9BA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C36-F67E-44AA-A8F9-A616B7AB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7963-8739-4E44-BA76-91689FCD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3AB-4889-44A1-BD25-07F15639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E895-3747-41B5-AD1F-C707F9C4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C5EC-B4AC-4953-83F6-4AA01B16E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76400" y="515628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MA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tober 19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712800"/>
            <a:ext cx="678168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cal-State Relations:  You’ve Lost That Lovin’ Fe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e Micromanagement of Local Affa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mes E. Nor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ty Administ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ty of Ramsey, Minnes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8B9-39B9-4AE3-9D33-DE7820CA95FC}" type="slidenum">
              <a:t>1</a:t>
            </a:fld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gue of Minnesota C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3 City Chief Administrative Offic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tive Salary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Central 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inneapoli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82,618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$126,2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lanta, G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02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204,6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ginia Beach, V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30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83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 Moines, I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3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80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t. Lauderdale, F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49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76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lotte, N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20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68,6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klahoma City, O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00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61,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ansas City, M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00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56,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9C3-21C9-4B82-9B7B-AE072E3C386F}" type="slidenum">
              <a:t>10</a:t>
            </a:fld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uburb – 75,000 +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looming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85,17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$114,29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endale, A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47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89,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vada, C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89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77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llvue, W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5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59,9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rollton, T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82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54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and Park, K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12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53,8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stminster, C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75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50,9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lington Heights, I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75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33,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oy, M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75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28,6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uthfield, M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76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21,1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353-EBD9-4A23-9DC1-3EC7968DC746}" type="slidenum">
              <a:t>11</a:t>
            </a:fld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uburb – 25,000 – 75,000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04840"/>
            <a:ext cx="82296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. Louis Park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4,50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$116,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4 MN Citi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t or below cap of $114,2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kokie, 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9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81,7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ffalo Grove, 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6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61,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land Park, 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1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51,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latine, 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2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48,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wnee, K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8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45,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pevine, T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44,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aumburg, 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9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43,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wie, M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8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40,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ffman Estates, 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7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35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wner’s Grove, 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7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31,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odridge, 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6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28,7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lmette, 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7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28,7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lathe, K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21,7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llwin, M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7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18,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ue Springs, M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17,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keny, 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17,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rbandale, 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4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14,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E5BA-7F95-40CA-B270-D960E3B5C2EB}" type="slidenum">
              <a:t>12</a:t>
            </a:fld>
          </a:p>
        </p:txBody>
      </p:sp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eestanding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chest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90,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12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ulu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86,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108,2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. Clou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60,3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101,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t Collins, 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88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52,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owa City, 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60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44,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s, 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47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37,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n Arbor, M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0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37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mont, 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52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33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gstaff, A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46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32,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Point, N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69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32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heville, N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63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26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sville, W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52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24,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atur, I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84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18,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87C-3CA5-4D28-AA5C-DBF3EE65274C}" type="slidenum">
              <a:t>13</a:t>
            </a:fld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Recent Comparison Prepared by Paul Reaume and Associates</a:t>
            </a:r>
            <a:br>
              <a:rPr sz="2200"/>
            </a:b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For Dakota County Administrator Salary Cap Appe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ot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mpens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opul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Budget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ilford Co, N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74,71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25,38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7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4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syth Co, N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73,77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10,18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2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dgwick Co, K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38,7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6,61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74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2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nt Co, M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41,74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80,33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3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ke Co, 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63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61,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shtenaw Co, M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47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6,62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6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1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evard Co, F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41,08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76,23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4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y of Des Moines, 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87,40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,68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5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1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ty of Wichita Falls, T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60,7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4,19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ty of Colorado Spg., C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82,90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60,89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48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2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awba Co, N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76,99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1,68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1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1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tler Co, O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13,77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37,01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3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verage Comp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$158,4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kota Co, M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$118,288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63,866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81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2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get numbers are in mill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03A-6529-4497-803B-661B93938CA7}" type="slidenum">
              <a:t>14</a:t>
            </a:fld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840" y="388440"/>
            <a:ext cx="822960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Control – The authority of local elected officials to make decisions for public good without undue interference by the state or federal govern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52684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ing fathers created a system in which public responsibilities were divided among national, state, and local governmen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concentration of power in on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ust local issues to local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only issues of broad national or state interest are decided by more distant gover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47B-4B20-4083-94A7-F1D2838BC003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eations of the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cities and counties are creations of the state, all authority that cities exercise ultimately comes from the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ny of the decisions by state or federal officials to mandate or pre-empt local actions have broad public support, citizens rate local governments as the most trusted and accountable level of gover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offs inherent in decisions to pre-empt loca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ty vs. local specif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ve efficiency vs. local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ability and control vs. experimentation and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166A-B243-4267-B7A3-C21327B48E54}" type="slidenum">
              <a:t>3</a:t>
            </a:fld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s of Mandates or Pre-emption of Local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4748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d-use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 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y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th in Tax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ary 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26D-FBAC-4DE0-BDAD-091F34495547}" type="slidenum">
              <a:t>4</a:t>
            </a:fld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nd Use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ries of proposals were drafted during the 2004 Legislative session that would severely restrict cities’ ability to conduct thoughtful, comprehensive plan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Conforming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Mora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inent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and Zoning Fees and D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018-134E-4725-90F7-C8A7956A57C2}" type="slidenum">
              <a:t>5</a:t>
            </a:fld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hibited Gif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ed and appointed “local officials” may not receive gifts from any “interested pers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“interested person” is a person, or representative of a person or association, who has a direct financial interest in a decision that a local official is authorized to m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2B3-5B91-432B-A60F-2688F14C2FB8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vy Limits and Freez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811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y limits restrict the amount of property taxes (the primary revenue source) cities and counties may levy for general purpose expendi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6 of the past 31 years, the Legislature has restricted property tax lev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003, the Minnesota Legislature cut aid to cities by almost 25% and imposed the strictest freeze in state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OR (Taxpayer Bill of Rights) modeled after Colorado state law.  Would constitutionally limit government spending and revenues by a pre-determined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7CEE-B1CB-4943-880F-A4C278E6EAA6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uth-In-Tax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13080"/>
            <a:ext cx="822960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tate mandated requirements of notices and hearings for proposed property tax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istory and descrip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1A7-523B-406D-A72E-B911641E06D4}" type="slidenum">
              <a:t>8</a:t>
            </a:fld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lary “Cap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nnesota is the only state in the nation that imposes a limit on local government compens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e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ention and Recruitment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ulnerable to recruitment from other states (depletion of “talent” p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ruitment for new employees mor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incentive to “move up” to top-level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ary compression between middle-management and top-level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5A0-5B73-4D2F-B42D-7E11BF42BB89}" type="slidenum">
              <a:t>9</a:t>
            </a:fld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04Z</dcterms:created>
  <dc:creator>cindy gates</dc:creator>
  <dc:description/>
  <dc:language>en-US</dc:language>
  <cp:lastModifiedBy>Alison Miller</cp:lastModifiedBy>
  <cp:lastPrinted>1998-02-19T23:09:47Z</cp:lastPrinted>
  <dcterms:modified xsi:type="dcterms:W3CDTF">2005-01-18T21:50:14Z</dcterms:modified>
  <cp:revision>211</cp:revision>
  <dc:subject/>
  <dc:title>No Slide Title</dc:title>
</cp:coreProperties>
</file>