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8584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5AF5AD-E8CE-44B7-BF18-775A67D22562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D3E24E-DE87-4E53-93D5-28446327300E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264451-D822-4A17-864E-73A206BD9CB5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5F9A0F-33FC-4F7B-8B7E-E4089F7386C2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F45705-A056-43C0-85A3-02FB960DCAC7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28D3F5-70D0-4453-A7DB-322FD8B2D928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18AE48-A94D-4A17-B9D9-9053F3B8774D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62F217-E75D-4BAB-847A-B8137D39D523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49D6C5F-6D4C-4BD2-9E31-ADA14D6A5690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75CE71-4F9A-4FF3-A4FB-B579E3451B3B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0B67BA3-41F5-4399-A238-AD1A1C89FA14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143-4ACF-4629-8426-B46F9893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E26-8D81-4B45-88A1-0B311427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C64-9D53-4442-B5DE-D474D059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A4E-E0F0-4A4B-A6EB-FD1D1B6A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8E46-06EC-4681-AB71-0A61DFC4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1780-4E94-49BC-B54B-3EB74835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9B6-021A-4E85-B6DE-AD022E7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AF64-D85A-4285-82D7-83A80E4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F82-1394-429F-BD15-4F42B0A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5DE-3C40-4100-9231-DBD89014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51B7-1F64-48D1-9A4A-EE97808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2E2-90C8-43AC-A857-7F30B09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9A1-09AF-4012-ABE9-56D4430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6D5-87D7-4255-A37B-42D5675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2076-27BF-418B-B5E0-BAC0115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A2F-7829-4081-B484-A4CD9353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D8C-34FD-4BDF-ACEC-ABFF52A6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C31-32AD-4A94-AF85-A99A8F59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D8B-7E0F-46ED-B911-3B0C7F2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6C2-68A4-48E8-A490-0D82561B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7C2-A7F2-4881-A4F2-EE05E8E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B2A-06E0-4186-A6CD-88CD2D7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8EA-1676-4067-A732-F513149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758-A068-4DCE-968A-F816E2E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CBD-FAC6-4031-A392-EE4C9124C5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BB6-9E5C-4511-B4F7-447BF61A45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876400" y="43430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n Diego, Califor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712800"/>
            <a:ext cx="6781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nternational City / County Management Association Annual Confer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C76B-2949-45DA-9890-BFE52B1C6B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14360" y="490680"/>
            <a:ext cx="6369120" cy="628164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932440" y="957240"/>
            <a:ext cx="2336760" cy="2298600"/>
            <a:chOff x="5932440" y="957240"/>
            <a:chExt cx="2336760" cy="2298600"/>
          </a:xfrm>
        </p:grpSpPr>
        <p:pic>
          <p:nvPicPr>
            <p:cNvPr id="44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2440" y="957240"/>
              <a:ext cx="23367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530040" y="167940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4600" y="222588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 txBox="1"/>
          <p:nvPr/>
        </p:nvSpPr>
        <p:spPr>
          <a:xfrm>
            <a:off x="534960" y="97632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7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148440" y="1938240"/>
            <a:ext cx="1887120" cy="366840"/>
            <a:chOff x="6148440" y="1938240"/>
            <a:chExt cx="1887120" cy="366840"/>
          </a:xfrm>
        </p:grpSpPr>
        <p:sp>
          <p:nvSpPr>
            <p:cNvPr id="451" name=""/>
            <p:cNvSpPr/>
            <p:nvPr/>
          </p:nvSpPr>
          <p:spPr>
            <a:xfrm>
              <a:off x="748476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212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4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4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66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484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46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29E-2222-4856-BA54-E5319351EA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92120"/>
            <a:ext cx="6369120" cy="6280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22360" y="9874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8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46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49880" y="1949400"/>
            <a:ext cx="1887480" cy="366840"/>
            <a:chOff x="6149880" y="1949400"/>
            <a:chExt cx="1887480" cy="366840"/>
          </a:xfrm>
        </p:grpSpPr>
        <p:sp>
          <p:nvSpPr>
            <p:cNvPr id="465" name=""/>
            <p:cNvSpPr/>
            <p:nvPr/>
          </p:nvSpPr>
          <p:spPr>
            <a:xfrm>
              <a:off x="74858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230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562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862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180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498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486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B15-4E34-4F46-8B8A-511713D6CB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8240" y="488880"/>
            <a:ext cx="6379920" cy="62978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528480" y="98748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9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940360" y="954000"/>
            <a:ext cx="2336760" cy="2298960"/>
            <a:chOff x="5940360" y="954000"/>
            <a:chExt cx="2336760" cy="2298960"/>
          </a:xfrm>
        </p:grpSpPr>
        <p:pic>
          <p:nvPicPr>
            <p:cNvPr id="47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4036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53796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7252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141960" y="1935000"/>
            <a:ext cx="1887480" cy="366840"/>
            <a:chOff x="6141960" y="1935000"/>
            <a:chExt cx="1887480" cy="366840"/>
          </a:xfrm>
        </p:grpSpPr>
        <p:sp>
          <p:nvSpPr>
            <p:cNvPr id="479" name=""/>
            <p:cNvSpPr/>
            <p:nvPr/>
          </p:nvSpPr>
          <p:spPr>
            <a:xfrm>
              <a:off x="74779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151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483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783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01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419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07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590-4191-475C-B85F-06EB4DA8EF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92120"/>
            <a:ext cx="6386400" cy="62946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22360" y="9874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942160" y="950760"/>
            <a:ext cx="2336760" cy="2298600"/>
            <a:chOff x="5942160" y="950760"/>
            <a:chExt cx="2336760" cy="2298600"/>
          </a:xfrm>
        </p:grpSpPr>
        <p:grpSp>
          <p:nvGrpSpPr>
            <p:cNvPr id="489" name=""/>
            <p:cNvGrpSpPr/>
            <p:nvPr/>
          </p:nvGrpSpPr>
          <p:grpSpPr>
            <a:xfrm>
              <a:off x="5942160" y="950760"/>
              <a:ext cx="2336760" cy="2298600"/>
              <a:chOff x="5942160" y="950760"/>
              <a:chExt cx="2336760" cy="2298600"/>
            </a:xfrm>
          </p:grpSpPr>
          <p:pic>
            <p:nvPicPr>
              <p:cNvPr id="490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5942160" y="950760"/>
                <a:ext cx="233676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6539760" y="1672920"/>
                <a:ext cx="1277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POPUL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74320" y="2219400"/>
                <a:ext cx="1148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ODOME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148440" y="1936440"/>
              <a:ext cx="1887480" cy="366840"/>
              <a:chOff x="6148440" y="1936440"/>
              <a:chExt cx="1887480" cy="366840"/>
            </a:xfrm>
          </p:grpSpPr>
          <p:sp>
            <p:nvSpPr>
              <p:cNvPr id="494" name=""/>
              <p:cNvSpPr/>
              <p:nvPr/>
            </p:nvSpPr>
            <p:spPr>
              <a:xfrm>
                <a:off x="74844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2216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548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848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166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484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472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18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26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F05-A7A2-43D5-9C30-DFA815BFFC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87440"/>
            <a:ext cx="6386400" cy="6300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522360" y="9730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3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53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40520" y="1940040"/>
            <a:ext cx="1887120" cy="366840"/>
            <a:chOff x="6140520" y="1940040"/>
            <a:chExt cx="1887120" cy="366840"/>
          </a:xfrm>
        </p:grpSpPr>
        <p:sp>
          <p:nvSpPr>
            <p:cNvPr id="540" name=""/>
            <p:cNvSpPr/>
            <p:nvPr/>
          </p:nvSpPr>
          <p:spPr>
            <a:xfrm>
              <a:off x="74761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368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465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76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87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405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38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48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56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64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72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7BC-206F-46EF-B32A-196DEEB4F73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National Conservation Are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1680" y="1141560"/>
            <a:ext cx="853740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B14-D2EE-494A-8A8E-451077BEC9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17784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06440" y="1095480"/>
            <a:ext cx="8334360" cy="539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2B0-F20F-4BC7-80BA-CA0022067B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378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ine Proper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2680" y="1243080"/>
            <a:ext cx="8427960" cy="54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7C4-D1A8-48D3-84D8-2442F51829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25640" y="-63720"/>
            <a:ext cx="724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94920" y="995400"/>
            <a:ext cx="7472520" cy="52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Protectio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ed Existing Overlay District to include Environmentall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Lands and Private Proper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 a super-majority vote for non-conforming zone chang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the Planning Commission and The 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ity and Land Use Reg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and Encourage Clustering of Un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uraged Down Z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First Floor Square Footage by Lot Si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d Natural Building Envelope Around Un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ricted Wall Heights and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d Contiguous Natural and Open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 Special Setback Distance from the Ridge 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34A-E2AE-4500-AC15-1BA602CBEE0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25640" y="228240"/>
            <a:ext cx="724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sed State Legisl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60680" y="1453680"/>
            <a:ext cx="72230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priate Roles and Responsibilities of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ou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vs. 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ve vs. Adversarial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y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County Commissio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Bill Sponsor and Key Legisl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Legislative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News Media, Public Interest 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mmunity L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9DA-82D2-46D8-889B-D6929ADB63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35160" y="4228920"/>
            <a:ext cx="601992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hard B. Hol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stant County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rk County, Ne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Logo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816680" y="552456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01480" y="712800"/>
            <a:ext cx="84772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tate Management of Local Affai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anaging the Micromanagers: State / Local Land Use Contro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E919-059A-40E5-9AD4-852DFF93CB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25640" y="228600"/>
            <a:ext cx="7245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cces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19240" y="1999800"/>
            <a:ext cx="665496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Legislation Passed – Endorsed by Clark County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d the Addition of New Requirements Impose by th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Legislature to Strengthen Local Land Use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601-3BA6-41B7-9C33-E3ED6F9EBD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25640" y="228600"/>
            <a:ext cx="7245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Mess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622160" y="1676160"/>
            <a:ext cx="725796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You can Manage the Micromanager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ieve a Positiv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the Scope of Stat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e the Advantages of a Cooperative State / Local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areful of a State / Local Partnership it may be very difficult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FC3-082D-46FF-8B98-82118FAE75C7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35120" y="1790280"/>
            <a:ext cx="7207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d Use Regulations Imposed by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on Loca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/ Local Partnership for Natural Resource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Messages from Clark County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3F9-D1B0-4A0F-9EFD-B98039047A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d Use Regulation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osed by St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5200" y="2126880"/>
            <a:ext cx="83088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Role of the State in Local Land Use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iet Revolution in Land Use Control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as of Critical Environmental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s of Greater than Local Signific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of More than Local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Ru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llon’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vada – Dillon’s Rule, except for Zoning and Land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267-5856-46D4-BA58-082C0913CC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State Impos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d Use Regulation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52320" y="2209680"/>
            <a:ext cx="73911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rida – Areas of Critical Environmental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nt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reational Facilities and Seco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gon – Urban Growth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chusetts – Costal and Inland Wetl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C79-215A-4E51-A78C-4C363B4F51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45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storic Population Growth: 1990 –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County and State of Nev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U.S. Census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66760" y="1625760"/>
          <a:ext cx="85597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25760"/>
                    <a:ext cx="85597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411-892E-4740-9DD4-FD3796317D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20840" y="140040"/>
            <a:ext cx="84200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County Population Forecast: 2004-20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The Center for Business and Economic Research (CBER) at UN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54160" y="1682640"/>
          <a:ext cx="868680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682640"/>
                    <a:ext cx="86868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5ED-A052-424F-913E-5F0694D631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6140520" y="1940040"/>
            <a:ext cx="1887120" cy="366840"/>
            <a:chOff x="6140520" y="1940040"/>
            <a:chExt cx="1887120" cy="366840"/>
          </a:xfrm>
        </p:grpSpPr>
        <p:sp>
          <p:nvSpPr>
            <p:cNvPr id="409" name=""/>
            <p:cNvSpPr/>
            <p:nvPr/>
          </p:nvSpPr>
          <p:spPr>
            <a:xfrm>
              <a:off x="747684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133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65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76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083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405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38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3200" y="487440"/>
            <a:ext cx="6388200" cy="630072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41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522360" y="958680"/>
            <a:ext cx="1218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3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149880" y="1935000"/>
            <a:ext cx="1887480" cy="366840"/>
            <a:chOff x="6149880" y="1935000"/>
            <a:chExt cx="1887480" cy="366840"/>
          </a:xfrm>
        </p:grpSpPr>
        <p:sp>
          <p:nvSpPr>
            <p:cNvPr id="423" name=""/>
            <p:cNvSpPr/>
            <p:nvPr/>
          </p:nvSpPr>
          <p:spPr>
            <a:xfrm>
              <a:off x="74865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230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562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6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180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49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3BC-E458-4E37-9B76-EF864205F9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3200" y="471600"/>
            <a:ext cx="6373800" cy="6286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23800" y="97164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5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931000" y="957240"/>
            <a:ext cx="2336760" cy="2298600"/>
            <a:chOff x="5931000" y="957240"/>
            <a:chExt cx="2336760" cy="2298600"/>
          </a:xfrm>
        </p:grpSpPr>
        <p:pic>
          <p:nvPicPr>
            <p:cNvPr id="43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1000" y="957240"/>
              <a:ext cx="23367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529320" y="167940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2800" y="222552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105600" y="1924200"/>
            <a:ext cx="1887120" cy="366840"/>
            <a:chOff x="6105600" y="1924200"/>
            <a:chExt cx="1887120" cy="366840"/>
          </a:xfrm>
        </p:grpSpPr>
        <p:sp>
          <p:nvSpPr>
            <p:cNvPr id="437" name=""/>
            <p:cNvSpPr/>
            <p:nvPr/>
          </p:nvSpPr>
          <p:spPr>
            <a:xfrm>
              <a:off x="744192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784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12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42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738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056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4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E92-0AF9-4A95-9D19-0754EB57E2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04Z</dcterms:created>
  <dc:creator>cindy gates</dc:creator>
  <dc:description/>
  <dc:language>en-US</dc:language>
  <cp:lastModifiedBy>Alison Miller</cp:lastModifiedBy>
  <cp:lastPrinted>1998-02-19T23:09:47Z</cp:lastPrinted>
  <dcterms:modified xsi:type="dcterms:W3CDTF">2005-01-18T21:51:13Z</dcterms:modified>
  <cp:revision>204</cp:revision>
  <dc:subject/>
  <dc:title>No Slide Title</dc:title>
</cp:coreProperties>
</file>